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797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54388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6"/>
          </p:nvPr>
        </p:nvSpPr>
        <p:spPr>
          <a:xfrm>
            <a:off x="5740560" y="9429840"/>
            <a:ext cx="10569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B6D4-AC98-4451-BA31-82ADDA1872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740560" y="9429840"/>
            <a:ext cx="1056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95C4-8443-42F3-807A-20F3CB721D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of the frame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nsists of the entire legal, political, financial and procedural system within which the EC services must operate when carrying out interventions in man-made, natural or structural crisis situ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vers the EU treaties, international agreements, overall policies, thematic and sector policies to financial instruments, related financial procedures as well as the entire programming and project cy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740560" y="9429840"/>
            <a:ext cx="1056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5848-8C02-4620-B7E0-734CAF8ECB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of the frame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nsists of the entire legal, political, financial and procedural system within which the EC services must operate when carrying out interventions in man-made, natural or structural crisis situ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vers the EU treaties, international agreements, overall policies, thematic and sector policies to financial instruments, related financial procedures as well as the entire programming and project cy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740560" y="9429840"/>
            <a:ext cx="1056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4653-91E3-4CD9-8E03-EF100EED8C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of the frame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nsists of the entire legal, political, financial and procedural system within which the EC services must operate when carrying out interventions in man-made, natural or structural crisis situ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vers the EU treaties, international agreements, overall policies, thematic and sector policies to financial instruments, related financial procedures as well as the entire programming and project cy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740560" y="9429840"/>
            <a:ext cx="1056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0F7B-43F1-4EA1-81F0-5011A286F9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of the frame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nsists of the entire legal, political, financial and procedural system within which the EC services must operate when carrying out interventions in man-made, natural or structural crisis situ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vers the EU treaties, international agreements, overall policies, thematic and sector policies to financial instruments, related financial procedures as well as the entire programming and project cy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740560" y="9429840"/>
            <a:ext cx="1056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AA44-C81C-4039-B3D9-BDD307BC82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of the frame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nsists of the entire legal, political, financial and procedural system within which the EC services must operate when carrying out interventions in man-made, natural or structural crisis situ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vers the EU treaties, international agreements, overall policies, thematic and sector policies to financial instruments, related financial procedures as well as the entire programming and project cy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EDBB7-0AC8-4388-81F0-78B8A788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F435D-A9C5-4FC9-97E2-C732AFDE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E0EBA-4680-428A-BF7A-03BF0A1E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5DDAA-250D-4E94-9439-4629E8A8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D4FDF-F34F-47F6-B364-78D8F3FB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937C8-4E48-48A9-9DF1-172C7DE1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AFD8F-B9F1-45AB-90AB-F66354E3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DA5DE-FC06-4009-9DBB-E6CDCD1D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EBA17-3328-47A7-B691-D1209508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C4FD8-027D-460A-96FE-956BCBFD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AB39C-420F-4472-82EB-BE11FFF6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88E1D-DCE9-4981-A722-343A07F4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086600" y="632448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4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5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7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8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5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08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0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5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Picture 162" descr="logo-formation"/>
          <p:cNvPicPr/>
          <p:nvPr/>
        </p:nvPicPr>
        <p:blipFill>
          <a:blip r:embed="rId5"/>
          <a:stretch/>
        </p:blipFill>
        <p:spPr>
          <a:xfrm>
            <a:off x="7924680" y="0"/>
            <a:ext cx="1219320" cy="115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4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6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8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5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7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2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3" name="Picture 97" descr="dmi"/>
          <p:cNvPicPr/>
          <p:nvPr/>
        </p:nvPicPr>
        <p:blipFill>
          <a:blip r:embed="rId3"/>
          <a:stretch/>
        </p:blipFill>
        <p:spPr>
          <a:xfrm>
            <a:off x="7086600" y="6324480"/>
            <a:ext cx="1690560" cy="277920"/>
          </a:xfrm>
          <a:prstGeom prst="rect">
            <a:avLst/>
          </a:prstGeom>
          <a:ln w="0">
            <a:noFill/>
          </a:ln>
        </p:spPr>
      </p:pic>
      <p:pic>
        <p:nvPicPr>
          <p:cNvPr id="284" name="FIRST_PAGE_HEADER" descr="IBMlogo_blue2"/>
          <p:cNvPicPr/>
          <p:nvPr/>
        </p:nvPicPr>
        <p:blipFill>
          <a:blip r:embed="rId4"/>
          <a:stretch/>
        </p:blipFill>
        <p:spPr>
          <a:xfrm>
            <a:off x="539640" y="6308640"/>
            <a:ext cx="809640" cy="324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3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FBDB-FD4A-4DDA-8D44-1301BA817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ey question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6940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1: After having discussed your respective experiences in dealing with transition situations, could you agree on a list of best practices? (at the different stages of the intervention cycle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CSP with different scen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Joint needs assessment with ECHO and other stakehol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Involvement of ECHO in the programming cycle (when releva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CfP evalu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Harmonisation of positions on specific sectors (ECHO, Del and 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ey question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6940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1: After having discussed your respective experiences in dealing with transition situations, could you agree on a list of best practices? (at the different stages of the intervention cycle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...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SimSun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Mainstreaming of Conflict Sensitivity (disability, protection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Complementarities/Geographical/ syner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Demining/Mine risk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Housing (temporary vs. Perman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ey question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6940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2: Could you agree on a list of improvements that HQ should decide for enabling you to better act in transition situation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Need for an official EC document/ guidelines on how to implement LR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Need for a regulatory framework for implementing LR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To benefit from certain instruments (IFS, FSTP, EIDHR, AUP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Foresee “Crisis situation”/Derog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ey question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6940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2: Could you agree on a list of improvements that HQ should decide for enabling you to better act in transition situations? ...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SimSun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Ensure and improve coordination at HQ level (ECHO/AIDCO/DEV/RELE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And with DEL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Ensure a multi-sector dimension of LRRD (not only F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Establishment of EC TF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SimSun"/>
              </a:rPr>
              <a:t>Aid effectivenes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ey question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6940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3: Do you think that it would be a good idea to have a joint “humanitarian development strategic framework” for addressing very specific objectives (for example joint strategic framework (JSF) for reducing the prevalence of malnutrition or JSF for resettlement of IDP/refuge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SimSun"/>
              </a:rPr>
              <a:t>Country/Crisis based (very specifi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SimSun"/>
              </a:rPr>
              <a:t>Mutually agreed/Not impos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SimSun"/>
              </a:rPr>
              <a:t>More suitable in protracted and/or recurrent cr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SimSun"/>
              </a:rPr>
              <a:t>Useful for designing exit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06:59:49Z</dcterms:created>
  <dc:creator>apo</dc:creator>
  <dc:description/>
  <dc:language>en-US</dc:language>
  <cp:lastModifiedBy>albyflores_v</cp:lastModifiedBy>
  <dcterms:modified xsi:type="dcterms:W3CDTF">2010-07-19T11:57:48Z</dcterms:modified>
  <cp:revision>821</cp:revision>
  <dc:subject/>
  <dc:title>Trade &amp; Development Training - Pilot Phase</dc:title>
</cp:coreProperties>
</file>